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560-1AF7-4B2F-926D-D55CA8A4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A3D-C269-4E14-B9AC-E64FB1F1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663-7D49-42F7-BE5B-5C088B3D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34D-79B3-471F-A592-A29BBEF2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BDF-FCEC-4EFD-89BC-F95CBD59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CA3-FB58-42B9-880B-2F44D2C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583-F21D-489C-9CA1-E698D080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5C0-91E1-4937-A220-04843EF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C3E-5279-43A5-BFFD-212F5D7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CA9-3AC6-4C55-A340-7180350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624-73AF-40F0-AF59-8B400EA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7B9-E812-4CC2-8C1E-1E5B3FB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C6E7-28EB-4077-B92A-1F2ED4FA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adikal.ru/F/i033.radikal.ru/0804/e7/9bd31146a584.jpg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ANÇÃO  DO EXÌ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4652640"/>
            <a:ext cx="55454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"/>
              </a:rPr>
              <a:t>GONÇALVES 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Minha terra tem palmeir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Onde canta o sabiá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As aves , que aqui gorjeia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Não gorjeiam como l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920" y="0"/>
            <a:ext cx="83520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9840" y="-46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indas paisagens"/>
          <p:cNvPicPr/>
          <p:nvPr/>
        </p:nvPicPr>
        <p:blipFill>
          <a:blip r:embed="rId1"/>
          <a:stretch/>
        </p:blipFill>
        <p:spPr>
          <a:xfrm>
            <a:off x="0" y="2625840"/>
            <a:ext cx="9144000" cy="423216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o céu tem mais estrel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as várzeas têm mais flo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os bosques têm mais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a vida mais am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2276640"/>
            <a:ext cx="9107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Em cismar,sozinho,à noit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ais prazer eu encontro lá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inha terra tem palmeiras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Ba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a terra tem primore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Que tais não encontro eu cá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Em cismar sozinho, à noit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ais prazer  encontro eu lá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a terra tem palmeira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Onde canta o Sab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user post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Não</a:t>
            </a: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  permita Deus que eu morra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e eu volte para lá;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e desfrute os primores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Que não encontro por cá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”inda aviste as palmeiras,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Onde canta o Sabi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a: Ana Lucia de Camarg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ola Estadual Senador Filinto Müller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urso: CBIV - 2009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rientação: Profª Marta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27:21Z</dcterms:created>
  <dc:creator>Escola</dc:creator>
  <dc:description/>
  <dc:language>en-US</dc:language>
  <cp:lastModifiedBy>Escola</cp:lastModifiedBy>
  <dcterms:modified xsi:type="dcterms:W3CDTF">2009-06-25T17:45:47Z</dcterms:modified>
  <cp:revision>3</cp:revision>
  <dc:subject/>
  <dc:title>CANÇÃO  DO EXÌLIO</dc:title>
</cp:coreProperties>
</file>